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D70A-39C1-4766-8F6A-7779DCB96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854100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2760" y="3986280"/>
            <a:ext cx="854100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26F4-2284-4AB8-9C19-CE51B7AE8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276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90AC-3B48-4216-A59F-C1A40734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27500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500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8600" y="1676160"/>
            <a:ext cx="27500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2760" y="3986280"/>
            <a:ext cx="27500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986280"/>
            <a:ext cx="27500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8600" y="3986280"/>
            <a:ext cx="27500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E564-8B47-4659-A4C2-42A90EC79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08183-2B73-41AD-B437-2C02F0ED2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2760" y="16761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C9693-AB5A-4BD4-BF78-A3B035E9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496E-A741-4090-ABFF-DBF38CC05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92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7D26D-C310-4C17-99DC-DCBCA0014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78C13-77C5-43C1-A08D-866DC99D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3120" y="228600"/>
            <a:ext cx="85089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CA20C-5F93-44A1-A2C9-6540E308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92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276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B1FCC-26F1-46C5-A148-CC1942267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2760" y="16761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9A86-DFFF-484C-A726-086D02EA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92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92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54D28-7861-4539-A2A2-C2C689A20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92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2760" y="3986280"/>
            <a:ext cx="854100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E0ABB-FE5E-41EC-B64E-3AE41E3B1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854100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2760" y="3986280"/>
            <a:ext cx="854100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1CBBB-CBE0-4AFA-A591-D85645955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92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276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92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6C04-BCE8-4C42-8685-EAA8D168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27500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676160"/>
            <a:ext cx="27500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8600" y="1676160"/>
            <a:ext cx="27500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2760" y="3986280"/>
            <a:ext cx="27500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986280"/>
            <a:ext cx="27500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8600" y="3986280"/>
            <a:ext cx="27500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FA34-3E23-4245-AC09-5EE239A22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E3A-ED58-41C0-80C5-E87FFBE2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1C76-AE8D-466D-89C6-267B2CC29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38EC-30AC-4581-8AFF-0276BF672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3120" y="228600"/>
            <a:ext cx="850896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16A7-3F68-4973-A23D-BC79354B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276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203D-2E1E-4E41-B2F3-6A1AF773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2AD9-EF08-4C5F-8166-2BE17AE55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276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2760" y="3986280"/>
            <a:ext cx="854100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4FE-1A13-4F31-9C8C-AB801158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2760" y="1676160"/>
            <a:ext cx="854100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1AE0-2AB5-478A-89A6-41B6E1C64CDC}" type="datetime">
              <a:rPr b="0" lang="en-CA" sz="1400" spc="-1" strike="noStrike">
                <a:solidFill>
                  <a:srgbClr val="ffffff"/>
                </a:solidFill>
                <a:latin typeface="Arial"/>
              </a:rPr>
              <a:t>26-07-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511AC-AC8B-45B3-87CE-388977E3F4B0}" type="slidenum">
              <a:rPr b="0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9E327-5E00-4C4E-A16F-9B6AA82C3624}" type="datetime">
              <a:rPr b="0" lang="en-CA" sz="1400" spc="-1" strike="noStrike">
                <a:solidFill>
                  <a:srgbClr val="ffffff"/>
                </a:solidFill>
                <a:latin typeface="Arial"/>
              </a:rPr>
              <a:t>26-07-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84F8B-CD8D-43DC-AFC2-263462B78394}" type="slidenum">
              <a:rPr b="0" lang="es-A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539640" y="333360"/>
            <a:ext cx="8064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295280" y="1219320"/>
            <a:ext cx="6559560" cy="35589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65280" y="5184720"/>
            <a:ext cx="568440" cy="8352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371600" y="5210280"/>
            <a:ext cx="551808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000" spc="-1" strike="noStrike">
                <a:solidFill>
                  <a:srgbClr val="000000"/>
                </a:solidFill>
                <a:latin typeface="Palace Script MT"/>
              </a:rPr>
              <a:t>Ministerio de Educació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000000"/>
                </a:solidFill>
                <a:latin typeface="Palace Script MT"/>
              </a:rPr>
              <a:t>Secretaría de Políticas Universitari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039160" y="115920"/>
            <a:ext cx="996840" cy="5396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250920" y="8780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62120" y="1905120"/>
            <a:ext cx="361800" cy="3603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762120" y="3449520"/>
            <a:ext cx="361800" cy="36036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781200" y="990720"/>
            <a:ext cx="361800" cy="3603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447920" y="838080"/>
            <a:ext cx="72388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바탕"/>
              </a:rPr>
              <a:t>Facilitar el diseño e implementación de sistemas y herramientas de gest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바탕"/>
              </a:rPr>
              <a:t>Promover la asociatividad entre las instituciones universitarias para fortalecer equipos conjuntos en los distintos aspectos de la problemática de la Vinculación Tecn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바탕"/>
              </a:rPr>
              <a:t>Generar marcos de cooperación intra e interinstitucionales y garantizar la participación en la Red de Vinculación Tecnológica de las Universidades Nacionales – RedVITE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바탕"/>
              </a:rPr>
              <a:t>Contribuir a la formación y capacitación  de recursos humanos en la problemática de la V</a:t>
            </a:r>
            <a:r>
              <a:rPr b="1" lang="es-AR" sz="2000" spc="-1" strike="noStrike">
                <a:solidFill>
                  <a:srgbClr val="800000"/>
                </a:solidFill>
                <a:latin typeface="Tahoma"/>
                <a:ea typeface="바탕"/>
              </a:rPr>
              <a:t>.T.</a:t>
            </a: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바탕"/>
              </a:rPr>
              <a:t>, a través de actividades de actualización y perfeccionamiento y asistencia a centros de gestión de referencia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838080" y="4973760"/>
            <a:ext cx="3621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6560" y="609120"/>
            <a:ext cx="7985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Tahoma"/>
              </a:rPr>
              <a:t>Impacto Institucional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174680" y="1743120"/>
            <a:ext cx="7664040" cy="4411080"/>
            <a:chOff x="1174680" y="1743120"/>
            <a:chExt cx="7664040" cy="4411080"/>
          </a:xfrm>
        </p:grpSpPr>
        <p:grpSp>
          <p:nvGrpSpPr>
            <p:cNvPr id="151" name=""/>
            <p:cNvGrpSpPr/>
            <p:nvPr/>
          </p:nvGrpSpPr>
          <p:grpSpPr>
            <a:xfrm>
              <a:off x="1174680" y="1743120"/>
              <a:ext cx="7628400" cy="349920"/>
              <a:chOff x="1174680" y="1743120"/>
              <a:chExt cx="7628400" cy="349920"/>
            </a:xfrm>
          </p:grpSpPr>
          <p:sp>
            <p:nvSpPr>
              <p:cNvPr id="152" name=""/>
              <p:cNvSpPr/>
              <p:nvPr/>
            </p:nvSpPr>
            <p:spPr>
              <a:xfrm>
                <a:off x="1697760" y="1743120"/>
                <a:ext cx="710532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800000"/>
                    </a:solidFill>
                    <a:latin typeface="Tahoma"/>
                  </a:rPr>
                  <a:t>Total de proyectos en ejecución: 445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74680" y="1743120"/>
                <a:ext cx="317520" cy="326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4" name=""/>
            <p:cNvGrpSpPr/>
            <p:nvPr/>
          </p:nvGrpSpPr>
          <p:grpSpPr>
            <a:xfrm>
              <a:off x="1174680" y="2606760"/>
              <a:ext cx="6964920" cy="366480"/>
              <a:chOff x="1174680" y="2606760"/>
              <a:chExt cx="6964920" cy="366480"/>
            </a:xfrm>
          </p:grpSpPr>
          <p:sp>
            <p:nvSpPr>
              <p:cNvPr id="155" name=""/>
              <p:cNvSpPr/>
              <p:nvPr/>
            </p:nvSpPr>
            <p:spPr>
              <a:xfrm>
                <a:off x="1663920" y="2606760"/>
                <a:ext cx="6475680" cy="34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800000"/>
                    </a:solidFill>
                    <a:latin typeface="Tahoma"/>
                  </a:rPr>
                  <a:t>Monto total en ejecución: $ 12.270.000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5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74680" y="2646360"/>
                <a:ext cx="317520" cy="3268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" name=""/>
            <p:cNvGrpSpPr/>
            <p:nvPr/>
          </p:nvGrpSpPr>
          <p:grpSpPr>
            <a:xfrm>
              <a:off x="1174680" y="3546360"/>
              <a:ext cx="7664040" cy="605880"/>
              <a:chOff x="1174680" y="3546360"/>
              <a:chExt cx="7664040" cy="605880"/>
            </a:xfrm>
          </p:grpSpPr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1174680" y="3548160"/>
                <a:ext cx="317520" cy="326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>
                <a:off x="1663920" y="3546360"/>
                <a:ext cx="7174800" cy="60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70000"/>
                  </a:lnSpc>
                  <a:tabLst>
                    <a:tab algn="l" pos="0"/>
                    <a:tab algn="l" pos="45720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2400" spc="-1" strike="noStrike">
                    <a:solidFill>
                      <a:srgbClr val="800000"/>
                    </a:solidFill>
                    <a:latin typeface="Tahoma"/>
                  </a:rPr>
                  <a:t>Instituciones universitarias nacionales alcanzadas: 39 (89%)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pic>
          <p:nvPicPr>
            <p:cNvPr id="160" name="" descr=""/>
            <p:cNvPicPr/>
            <p:nvPr/>
          </p:nvPicPr>
          <p:blipFill>
            <a:blip r:embed="rId4"/>
            <a:stretch/>
          </p:blipFill>
          <p:spPr>
            <a:xfrm>
              <a:off x="1174680" y="4541760"/>
              <a:ext cx="31752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1733040" y="4540320"/>
              <a:ext cx="66859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Instituciones universitarias privadas alcanzadas: 16 (29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2" name="" descr=""/>
            <p:cNvPicPr/>
            <p:nvPr/>
          </p:nvPicPr>
          <p:blipFill>
            <a:blip r:embed="rId5"/>
            <a:stretch/>
          </p:blipFill>
          <p:spPr>
            <a:xfrm>
              <a:off x="1174680" y="5549760"/>
              <a:ext cx="317520" cy="32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1733040" y="5548320"/>
              <a:ext cx="696672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Provincias argentinas alcanzadas por los proyectos: 24 (100%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826560" y="228600"/>
            <a:ext cx="79851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8000"/>
                </a:solidFill>
                <a:latin typeface="Tahoma"/>
              </a:rPr>
              <a:t>Inserción Internacional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571760" y="1938240"/>
            <a:ext cx="730728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Países alcanzados: 3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033560" y="1959120"/>
            <a:ext cx="326880" cy="326880"/>
          </a:xfrm>
          <a:prstGeom prst="rect">
            <a:avLst/>
          </a:prstGeom>
          <a:ln w="0">
            <a:noFill/>
          </a:ln>
        </p:spPr>
      </p:pic>
      <p:grpSp>
        <p:nvGrpSpPr>
          <p:cNvPr id="167" name=""/>
          <p:cNvGrpSpPr/>
          <p:nvPr/>
        </p:nvGrpSpPr>
        <p:grpSpPr>
          <a:xfrm>
            <a:off x="1033560" y="2917800"/>
            <a:ext cx="7162200" cy="366480"/>
            <a:chOff x="1033560" y="2917800"/>
            <a:chExt cx="7162200" cy="366480"/>
          </a:xfrm>
        </p:grpSpPr>
        <p:sp>
          <p:nvSpPr>
            <p:cNvPr id="168" name=""/>
            <p:cNvSpPr/>
            <p:nvPr/>
          </p:nvSpPr>
          <p:spPr>
            <a:xfrm>
              <a:off x="1536480" y="2917800"/>
              <a:ext cx="6659280" cy="34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Países Latinoamericanos: 14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033560" y="2957400"/>
              <a:ext cx="326520" cy="326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0" name=""/>
          <p:cNvGrpSpPr/>
          <p:nvPr/>
        </p:nvGrpSpPr>
        <p:grpSpPr>
          <a:xfrm>
            <a:off x="1033560" y="3905280"/>
            <a:ext cx="7881840" cy="605880"/>
            <a:chOff x="1033560" y="3905280"/>
            <a:chExt cx="7881840" cy="605880"/>
          </a:xfrm>
        </p:grpSpPr>
        <p:pic>
          <p:nvPicPr>
            <p:cNvPr id="171" name="" descr=""/>
            <p:cNvPicPr/>
            <p:nvPr/>
          </p:nvPicPr>
          <p:blipFill>
            <a:blip r:embed="rId3"/>
            <a:stretch/>
          </p:blipFill>
          <p:spPr>
            <a:xfrm>
              <a:off x="1033560" y="3907080"/>
              <a:ext cx="326880" cy="3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536840" y="3905280"/>
              <a:ext cx="73785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Instituciones Universitarias extranjeras participantes: 152 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1033560" y="4973760"/>
            <a:ext cx="326880" cy="32688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1536840" y="4842000"/>
            <a:ext cx="737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Instituciones Universitar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Latinoamericanas: 1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3120" y="228600"/>
            <a:ext cx="850896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339966"/>
                </a:solidFill>
                <a:latin typeface="Tahoma"/>
              </a:rPr>
              <a:t>Actividades año 2008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2760" y="1447920"/>
            <a:ext cx="85410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a4"/>
                </a:solidFill>
                <a:latin typeface="Tahoma"/>
                <a:ea typeface="Times New Roman"/>
              </a:rPr>
              <a:t>	</a:t>
            </a:r>
            <a:r>
              <a:rPr b="0" lang="es-AR" sz="2800" spc="-1" strike="noStrike">
                <a:solidFill>
                  <a:srgbClr val="0000a4"/>
                </a:solidFill>
                <a:latin typeface="Tahoma"/>
                <a:ea typeface="Times New Roman"/>
              </a:rPr>
              <a:t>Convocatoria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a50021"/>
                </a:solidFill>
                <a:latin typeface="Tahoma"/>
                <a:ea typeface="Times New Roman"/>
              </a:rPr>
              <a:t>	</a:t>
            </a:r>
            <a:r>
              <a:rPr b="1" lang="es-AR" sz="2400" spc="-1" strike="noStrike">
                <a:solidFill>
                  <a:srgbClr val="008000"/>
                </a:solidFill>
                <a:latin typeface="Tahoma"/>
                <a:ea typeface="Times New Roman"/>
              </a:rPr>
              <a:t>1° semestre 2008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Fortalecimiento de la función de Extensión Un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iversita</a:t>
            </a:r>
            <a:r>
              <a:rPr b="0" lang="es-ES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r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i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	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Fortalecimiento de vínculos institucionales con el exterior 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	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  Consolidación de la capacidad de gestión del Área de 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	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  Vinculación Tecnológ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	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	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         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	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  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8000"/>
                </a:solidFill>
                <a:latin typeface="Tahoma"/>
                <a:ea typeface="Times New Roman"/>
              </a:rPr>
              <a:t>    </a:t>
            </a:r>
            <a:r>
              <a:rPr b="1" lang="es-AR" sz="2400" spc="-1" strike="noStrike">
                <a:solidFill>
                  <a:srgbClr val="008000"/>
                </a:solidFill>
                <a:latin typeface="Tahoma"/>
                <a:ea typeface="Times New Roman"/>
              </a:rPr>
              <a:t>2° semestre 200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	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Misiones al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 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	</a:t>
            </a:r>
            <a:r>
              <a:rPr b="0" lang="es-AR" sz="2400" spc="-1" strike="noStrike">
                <a:solidFill>
                  <a:srgbClr val="0000a4"/>
                </a:solidFill>
                <a:latin typeface="Tahoma"/>
                <a:ea typeface="Times New Roman"/>
              </a:rPr>
              <a:t>Fortalecimiento Redes 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14040" y="456840"/>
            <a:ext cx="7929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a4"/>
                </a:solidFill>
                <a:latin typeface="Tahoma"/>
              </a:rPr>
              <a:t>Talle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La ponderación de la extensión universitaria (may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Propiedad Intelectual, coorganizado entre la CVT con el MCTeIP 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Gestión de proyectos para las Áreas de Relaciones Internacionales (abril a jun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a4"/>
                </a:solidFill>
                <a:latin typeface="Tahoma"/>
              </a:rPr>
              <a:t>Presenta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Proyectos exitosos de extensión universitaria para su difusión y debate . CEU (mayo a noviemb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Experiencias innovadoras de Vinculación Tecnológica desde el año 2002 a la fecha y posterior edición (mayo a noviembre). CV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Un libro cada 2 meses en el año, de la Enseñanza de las Ciencias, CVT en coordinación con la REUN (a partir de mayo) y promocionarlo a nivel nacional e intern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914040" y="533520"/>
            <a:ext cx="792972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a4"/>
                </a:solidFill>
                <a:latin typeface="Tahoma"/>
              </a:rPr>
              <a:t>Semi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La internacionalización de la Educación Superior en coordinación con el CIN y la Dirección Nacional de Cooperación Internacional del ME (octub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a4"/>
                </a:solidFill>
                <a:latin typeface="Tahoma"/>
              </a:rPr>
              <a:t>Reun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Plenarias de la RedVITEC (mayo en Sgo. del Estero y noviembre en Paraná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Comisión Ejecutiva RedVITEC (marzo a noviemb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Parques Industriales (mayo en Tres Arroyo, junio General Pico La Pampa y otr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609480" y="533520"/>
            <a:ext cx="8234640" cy="556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0000a4"/>
                </a:solidFill>
                <a:latin typeface="Tahoma"/>
              </a:rPr>
              <a:t>Encuentros, jornadas, fo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Encuentro de Redes Regionales de Extensión Universitaria, Tarija, Bolivia (mayo), en coordinación con la C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Encuentro Nacional “La generación del conocimiento y su transferencia al sector productivo: perspectivas de las universidades argentinas”, CV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Jornadas de Extensión Universitaria del Norte Grande (Sgo. del Ester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Jornadas Nacionales de Extensión Universitaria, coorganizadas entre la CEU con la UNSLuis (noviembr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0000a4"/>
                </a:solidFill>
                <a:latin typeface="Tahoma"/>
              </a:rPr>
              <a:t>IV Foro de Universidades en Áreas de Frontera – REUNIF, Saenz Peña , Chaco (agosto), en coordinación con la C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7924680" y="228600"/>
            <a:ext cx="997200" cy="5396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143000" y="8380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Tahoma"/>
              </a:rPr>
              <a:t>PROGRAMA DE PROMOCION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008000"/>
                </a:solidFill>
                <a:latin typeface="Tahoma"/>
              </a:rPr>
              <a:t>DE LA UNIVERSIDAD ARGENTIN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143000" y="2362320"/>
            <a:ext cx="7543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50021"/>
                </a:solidFill>
                <a:latin typeface="Tahoma"/>
              </a:rPr>
              <a:t>Creado por Resolución Ministerial Nº 635/0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50021"/>
                </a:solidFill>
                <a:latin typeface="Tahoma"/>
              </a:rPr>
              <a:t>Misión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50021"/>
                </a:solidFill>
                <a:latin typeface="Tahoma"/>
              </a:rPr>
              <a:t>Promover la actividad universitaria argentina en el exterior y dar respuesta a requerimientos nacional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50021"/>
                </a:solidFill>
                <a:latin typeface="Tahoma"/>
              </a:rPr>
              <a:t>Conformación Institucional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a50021"/>
                </a:solidFill>
                <a:latin typeface="Tahoma"/>
              </a:rPr>
              <a:t>Director Ejecutivo - Consejo Ases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2743200" y="574560"/>
            <a:ext cx="3313080" cy="720720"/>
          </a:xfrm>
          <a:prstGeom prst="flowChartDocumen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8000"/>
                </a:solidFill>
                <a:latin typeface="Tahoma"/>
              </a:rPr>
              <a:t>O</a:t>
            </a:r>
            <a:r>
              <a:rPr b="1" lang="es-AR" sz="3600" spc="-1" strike="noStrike">
                <a:solidFill>
                  <a:srgbClr val="008000"/>
                </a:solidFill>
                <a:latin typeface="Tahoma"/>
              </a:rPr>
              <a:t>bjetiv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039160" y="115920"/>
            <a:ext cx="996840" cy="539640"/>
          </a:xfrm>
          <a:prstGeom prst="rect">
            <a:avLst/>
          </a:prstGeom>
          <a:ln w="0">
            <a:noFill/>
          </a:ln>
        </p:spPr>
      </p:pic>
      <p:grpSp>
        <p:nvGrpSpPr>
          <p:cNvPr id="91" name=""/>
          <p:cNvGrpSpPr/>
          <p:nvPr/>
        </p:nvGrpSpPr>
        <p:grpSpPr>
          <a:xfrm>
            <a:off x="826920" y="1557360"/>
            <a:ext cx="7783200" cy="947160"/>
            <a:chOff x="826920" y="1557360"/>
            <a:chExt cx="7783200" cy="947160"/>
          </a:xfrm>
        </p:grpSpPr>
        <p:sp>
          <p:nvSpPr>
            <p:cNvPr id="92" name=""/>
            <p:cNvSpPr/>
            <p:nvPr/>
          </p:nvSpPr>
          <p:spPr>
            <a:xfrm>
              <a:off x="1464120" y="1557360"/>
              <a:ext cx="714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800000"/>
                  </a:solidFill>
                  <a:latin typeface="Futura Md BT"/>
                </a:rPr>
                <a:t>P</a:t>
              </a:r>
              <a:r>
                <a:rPr b="1" lang="es-AR" sz="3200" spc="-1" strike="noStrike">
                  <a:solidFill>
                    <a:srgbClr val="800000"/>
                  </a:solidFill>
                  <a:latin typeface="Futura Md BT"/>
                </a:rPr>
                <a:t>romover</a:t>
              </a:r>
              <a:r>
                <a:rPr b="1" lang="es-ES" sz="3200" spc="-1" strike="noStrike">
                  <a:solidFill>
                    <a:srgbClr val="336699"/>
                  </a:solidFill>
                  <a:latin typeface="Futura Md BT"/>
                </a:rPr>
                <a:t> </a:t>
              </a:r>
              <a:r>
                <a:rPr b="1" lang="es-ES" sz="2400" spc="-1" strike="noStrike">
                  <a:solidFill>
                    <a:srgbClr val="800000"/>
                  </a:solidFill>
                  <a:latin typeface="Futura Md BT"/>
                </a:rPr>
                <a:t>la comunicación de la oferta académica de grado y posgrad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826920" y="1557360"/>
              <a:ext cx="46836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4" name=""/>
          <p:cNvGrpSpPr/>
          <p:nvPr/>
        </p:nvGrpSpPr>
        <p:grpSpPr>
          <a:xfrm>
            <a:off x="826920" y="2712960"/>
            <a:ext cx="7783200" cy="947160"/>
            <a:chOff x="826920" y="2712960"/>
            <a:chExt cx="7783200" cy="947160"/>
          </a:xfrm>
        </p:grpSpPr>
        <p:sp>
          <p:nvSpPr>
            <p:cNvPr id="95" name=""/>
            <p:cNvSpPr/>
            <p:nvPr/>
          </p:nvSpPr>
          <p:spPr>
            <a:xfrm>
              <a:off x="1464120" y="2712960"/>
              <a:ext cx="7146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800000"/>
                  </a:solidFill>
                  <a:latin typeface="Futura Md BT"/>
                </a:rPr>
                <a:t>A</a:t>
              </a:r>
              <a:r>
                <a:rPr b="1" lang="es-AR" sz="3200" spc="-1" strike="noStrike">
                  <a:solidFill>
                    <a:srgbClr val="800000"/>
                  </a:solidFill>
                  <a:latin typeface="Futura Md BT"/>
                </a:rPr>
                <a:t>uspiciar</a:t>
              </a:r>
              <a:r>
                <a:rPr b="0" lang="es-ES" sz="3200" spc="-1" strike="noStrike">
                  <a:solidFill>
                    <a:srgbClr val="a50021"/>
                  </a:solidFill>
                  <a:latin typeface="Futura Md BT"/>
                </a:rPr>
                <a:t> </a:t>
              </a:r>
              <a:r>
                <a:rPr b="1" lang="es-ES" sz="2400" spc="-1" strike="noStrike">
                  <a:solidFill>
                    <a:srgbClr val="800000"/>
                  </a:solidFill>
                  <a:latin typeface="Futura Md BT"/>
                </a:rPr>
                <a:t>los procesos de integración académica regional e internacional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3"/>
            <a:stretch/>
          </p:blipFill>
          <p:spPr>
            <a:xfrm>
              <a:off x="826920" y="2722680"/>
              <a:ext cx="46872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7" name=""/>
          <p:cNvGrpSpPr/>
          <p:nvPr/>
        </p:nvGrpSpPr>
        <p:grpSpPr>
          <a:xfrm>
            <a:off x="826920" y="4998960"/>
            <a:ext cx="7630920" cy="947160"/>
            <a:chOff x="826920" y="4998960"/>
            <a:chExt cx="7630920" cy="947160"/>
          </a:xfrm>
        </p:grpSpPr>
        <p:sp>
          <p:nvSpPr>
            <p:cNvPr id="98" name=""/>
            <p:cNvSpPr/>
            <p:nvPr/>
          </p:nvSpPr>
          <p:spPr>
            <a:xfrm>
              <a:off x="1384200" y="4998960"/>
              <a:ext cx="7073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800000"/>
                  </a:solidFill>
                  <a:latin typeface="Futura Md BT"/>
                </a:rPr>
                <a:t>A</a:t>
              </a:r>
              <a:r>
                <a:rPr b="1" lang="es-AR" sz="3200" spc="-1" strike="noStrike">
                  <a:solidFill>
                    <a:srgbClr val="800000"/>
                  </a:solidFill>
                  <a:latin typeface="Futura Md BT"/>
                </a:rPr>
                <a:t>lentar</a:t>
              </a:r>
              <a:r>
                <a:rPr b="1" lang="es-ES" sz="3200" spc="-1" strike="noStrike">
                  <a:solidFill>
                    <a:srgbClr val="800000"/>
                  </a:solidFill>
                  <a:latin typeface="Futura Md BT"/>
                </a:rPr>
                <a:t> </a:t>
              </a:r>
              <a:r>
                <a:rPr b="1" lang="es-ES" sz="2400" spc="-1" strike="noStrike">
                  <a:solidFill>
                    <a:srgbClr val="800000"/>
                  </a:solidFill>
                  <a:latin typeface="Futura Md BT"/>
                </a:rPr>
                <a:t>la vinculación de la universidad con el medio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826920" y="5005080"/>
              <a:ext cx="434520" cy="503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826920" y="3870360"/>
            <a:ext cx="7707240" cy="947160"/>
            <a:chOff x="826920" y="3870360"/>
            <a:chExt cx="7707240" cy="947160"/>
          </a:xfrm>
        </p:grpSpPr>
        <p:sp>
          <p:nvSpPr>
            <p:cNvPr id="101" name=""/>
            <p:cNvSpPr/>
            <p:nvPr/>
          </p:nvSpPr>
          <p:spPr>
            <a:xfrm>
              <a:off x="1424520" y="3870360"/>
              <a:ext cx="71096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800000"/>
                  </a:solidFill>
                  <a:latin typeface="Futura Md BT"/>
                </a:rPr>
                <a:t>F</a:t>
              </a:r>
              <a:r>
                <a:rPr b="1" lang="es-AR" sz="3200" spc="-1" strike="noStrike">
                  <a:solidFill>
                    <a:srgbClr val="800000"/>
                  </a:solidFill>
                  <a:latin typeface="Futura Md BT"/>
                </a:rPr>
                <a:t>omentar</a:t>
              </a:r>
              <a:r>
                <a:rPr b="0" lang="es-ES" sz="3200" spc="-1" strike="noStrike">
                  <a:solidFill>
                    <a:srgbClr val="336699"/>
                  </a:solidFill>
                  <a:latin typeface="Futura Md BT"/>
                </a:rPr>
                <a:t> </a:t>
              </a:r>
              <a:r>
                <a:rPr b="1" lang="es-ES" sz="2400" spc="-1" strike="noStrike">
                  <a:solidFill>
                    <a:srgbClr val="800000"/>
                  </a:solidFill>
                  <a:latin typeface="Futura Md BT"/>
                </a:rPr>
                <a:t>la</a:t>
              </a:r>
              <a:r>
                <a:rPr b="0" lang="es-ES" sz="3200" spc="-1" strike="noStrike">
                  <a:solidFill>
                    <a:srgbClr val="336699"/>
                  </a:solidFill>
                  <a:latin typeface="Futura Md BT"/>
                </a:rPr>
                <a:t> </a:t>
              </a:r>
              <a:r>
                <a:rPr b="1" lang="es-ES" sz="2400" spc="-1" strike="noStrike">
                  <a:solidFill>
                    <a:srgbClr val="800000"/>
                  </a:solidFill>
                  <a:latin typeface="Futura Md BT"/>
                </a:rPr>
                <a:t>creación de nuevas redes y consorcios</a:t>
              </a:r>
              <a:r>
                <a:rPr b="0" lang="es-ES" sz="2400" spc="-1" strike="noStrike">
                  <a:solidFill>
                    <a:srgbClr val="a50021"/>
                  </a:solidFill>
                  <a:latin typeface="Futura Md BT"/>
                </a:rPr>
                <a:t> </a:t>
              </a:r>
              <a:r>
                <a:rPr b="1" lang="es-ES" sz="2400" spc="-1" strike="noStrike">
                  <a:solidFill>
                    <a:srgbClr val="800000"/>
                  </a:solidFill>
                  <a:latin typeface="Futura Md BT"/>
                </a:rPr>
                <a:t>regionales e internacionales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2" name="" descr=""/>
            <p:cNvPicPr/>
            <p:nvPr/>
          </p:nvPicPr>
          <p:blipFill>
            <a:blip r:embed="rId5"/>
            <a:stretch/>
          </p:blipFill>
          <p:spPr>
            <a:xfrm>
              <a:off x="826920" y="3880080"/>
              <a:ext cx="466200" cy="502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8039160" y="115920"/>
            <a:ext cx="996840" cy="539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990720" y="633240"/>
            <a:ext cx="6705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8000"/>
                </a:solidFill>
                <a:latin typeface="Tahoma"/>
              </a:rPr>
              <a:t>Convocatorias públic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162080" y="2152800"/>
            <a:ext cx="361800" cy="3618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1162080" y="4287960"/>
            <a:ext cx="361800" cy="36036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057400" y="1968480"/>
            <a:ext cx="6248520" cy="3703320"/>
            <a:chOff x="2057400" y="1968480"/>
            <a:chExt cx="6248520" cy="3703320"/>
          </a:xfrm>
        </p:grpSpPr>
        <p:sp>
          <p:nvSpPr>
            <p:cNvPr id="108" name=""/>
            <p:cNvSpPr/>
            <p:nvPr/>
          </p:nvSpPr>
          <p:spPr>
            <a:xfrm>
              <a:off x="2057400" y="1968480"/>
              <a:ext cx="61722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Fortalecer las oficinas de Relaciones </a:t>
              </a:r>
              <a:r>
                <a:rPr b="1" lang="es-AR" sz="2400" spc="-1" strike="noStrike">
                  <a:solidFill>
                    <a:srgbClr val="800000"/>
                  </a:solidFill>
                  <a:latin typeface="Tahoma"/>
                </a:rPr>
                <a:t>I</a:t>
              </a: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nternacionales de las U</a:t>
              </a:r>
              <a:r>
                <a:rPr b="1" lang="es-AR" sz="2400" spc="-1" strike="noStrike">
                  <a:solidFill>
                    <a:srgbClr val="800000"/>
                  </a:solidFill>
                  <a:latin typeface="Tahoma"/>
                </a:rPr>
                <a:t>UN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AR" sz="2400" spc="-1" strike="noStrike">
                  <a:solidFill>
                    <a:srgbClr val="800000"/>
                  </a:solidFill>
                  <a:latin typeface="Tahoma"/>
                </a:rPr>
                <a:t>Monto asignado </a:t>
              </a: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$ 1.500.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P</a:t>
              </a:r>
              <a:r>
                <a:rPr b="1" lang="es-AR" sz="2400" spc="-1" strike="noStrike">
                  <a:solidFill>
                    <a:srgbClr val="800000"/>
                  </a:solidFill>
                  <a:latin typeface="Tahoma"/>
                </a:rPr>
                <a:t>royectos</a:t>
              </a: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 A</a:t>
              </a:r>
              <a:r>
                <a:rPr b="1" lang="es-AR" sz="2400" spc="-1" strike="noStrike">
                  <a:solidFill>
                    <a:srgbClr val="800000"/>
                  </a:solidFill>
                  <a:latin typeface="Tahoma"/>
                </a:rPr>
                <a:t>probados</a:t>
              </a: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: 32</a:t>
              </a: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	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057400" y="4114800"/>
              <a:ext cx="6248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Organizar y promover Misiones de las universidades al exterior.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M</a:t>
              </a:r>
              <a:r>
                <a:rPr b="1" lang="es-AR" sz="2400" spc="-1" strike="noStrike">
                  <a:solidFill>
                    <a:srgbClr val="800000"/>
                  </a:solidFill>
                  <a:latin typeface="Tahoma"/>
                </a:rPr>
                <a:t>onto asignado </a:t>
              </a: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$ 1.050.000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P</a:t>
              </a:r>
              <a:r>
                <a:rPr b="1" lang="es-AR" sz="2400" spc="-1" strike="noStrike">
                  <a:solidFill>
                    <a:srgbClr val="800000"/>
                  </a:solidFill>
                  <a:latin typeface="Tahoma"/>
                </a:rPr>
                <a:t>royectos Aprobados</a:t>
              </a:r>
              <a:r>
                <a:rPr b="1" lang="es-ES" sz="2400" spc="-1" strike="noStrike">
                  <a:solidFill>
                    <a:srgbClr val="800000"/>
                  </a:solidFill>
                  <a:latin typeface="Tahoma"/>
                </a:rPr>
                <a:t>: 19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8039160" y="115920"/>
            <a:ext cx="996840" cy="539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2203560" y="838080"/>
            <a:ext cx="625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Difundir la oferta universitaria argentin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Mecanismo: Sitio Web oficial</a:t>
            </a: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 SPU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3560" y="2209680"/>
            <a:ext cx="625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Alentar alianz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Redes Interuniversitarias </a:t>
            </a: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I y I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Monto asignado 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$ </a:t>
            </a: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4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.</a:t>
            </a: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8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P</a:t>
            </a: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royectos Aprobados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: </a:t>
            </a: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177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203560" y="3965400"/>
            <a:ext cx="6254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Financiar proyectos de extensión, vinculación 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tecnológica y desarrollo local que vinculen a las universidades nacionales con su entorno reg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Monto asignado 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$ 2.5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P</a:t>
            </a: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royectos Aprobados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: 108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371600" y="1066680"/>
            <a:ext cx="361800" cy="360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371600" y="2411280"/>
            <a:ext cx="361800" cy="3603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1371600" y="4191120"/>
            <a:ext cx="36180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039160" y="115920"/>
            <a:ext cx="996840" cy="53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0920" y="8780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781200" y="1166760"/>
            <a:ext cx="361800" cy="360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371600" y="1009800"/>
            <a:ext cx="7467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Financiar proyectos de Responsabilidad Social Universitaria: Desarrollo comunitario, salud e innovaciones académic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Monto asignado 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$ 2.4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Proyectos Aprobados: 109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781200" y="4059360"/>
            <a:ext cx="361800" cy="3603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444680" y="3505320"/>
            <a:ext cx="73944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a4"/>
                </a:solidFill>
                <a:latin typeface="Tahoma"/>
              </a:rPr>
              <a:t>Convocatoria 200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800000"/>
                </a:solidFill>
                <a:latin typeface="Tahoma"/>
              </a:rPr>
              <a:t>Contribuir al desarrollo de las políticas de extensión, vinculación tecnológica y relaciones internacionales de las instituciones universitarias argentinas mediante acciones de fortalecimiento institu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Monto asignado: </a:t>
            </a:r>
            <a:r>
              <a:rPr b="1" lang="es-ES" sz="2400" spc="-1" strike="noStrike">
                <a:solidFill>
                  <a:srgbClr val="800000"/>
                </a:solidFill>
                <a:latin typeface="Tahoma"/>
                <a:ea typeface="바탕"/>
              </a:rPr>
              <a:t>($40.000) por línea/proyec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8039160" y="115920"/>
            <a:ext cx="996840" cy="53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8780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81200" y="3373560"/>
            <a:ext cx="361800" cy="36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81200" y="4821120"/>
            <a:ext cx="361800" cy="3603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781200" y="2230560"/>
            <a:ext cx="361800" cy="36036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447920" y="1143000"/>
            <a:ext cx="7391160" cy="439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0000a4"/>
                </a:solidFill>
                <a:latin typeface="Tahoma"/>
              </a:rPr>
              <a:t>        </a:t>
            </a:r>
            <a:r>
              <a:rPr b="1" lang="es-AR" sz="3600" spc="-1" strike="noStrike">
                <a:solidFill>
                  <a:srgbClr val="008000"/>
                </a:solidFill>
                <a:latin typeface="Tahoma"/>
              </a:rPr>
              <a:t>Líneas / Proyecto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Fortalecimiento de la Función de Extens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Consolidación de las capacidades de gestión de las áreas de vinculación tecnológ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800000"/>
                </a:solidFill>
                <a:latin typeface="Tahoma"/>
              </a:rPr>
              <a:t>Fortalecimiento de los vínculos institucionales con el exter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8039160" y="115920"/>
            <a:ext cx="996840" cy="5396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50920" y="8780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362160" cy="36036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295280" y="6094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8000"/>
                </a:solidFill>
                <a:latin typeface="Tahoma"/>
                <a:ea typeface="Times New Roman"/>
              </a:rPr>
              <a:t>Consolidación de las capacidades de gestión de las áreas de vinculación tecnológica        </a:t>
            </a:r>
            <a:r>
              <a:rPr b="1" lang="es-E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>
            <a:off x="838080" y="487692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838080" y="1849320"/>
            <a:ext cx="362160" cy="36036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1600200" y="1752480"/>
            <a:ext cx="7086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바탕"/>
              </a:rPr>
              <a:t>Movilizar las capacidades universitarias en interacción con los actores socio-productiv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바탕"/>
              </a:rPr>
              <a:t>Contribuir a la interacción y generación de proyectos con el sector socio- productivo, a través de la información y difusión de instrumentos de promoción y fomento a la innovación tecnológ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바탕"/>
              </a:rPr>
              <a:t>Promover vínculos permanentes con los entornos productivos regionales, en la generación de espacios y encuentros sectoriales y/o regionales</a:t>
            </a: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Times New Roman"/>
              </a:rPr>
              <a:t>   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8039160" y="115920"/>
            <a:ext cx="996840" cy="5396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250920" y="878040"/>
            <a:ext cx="813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336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3520" y="3048120"/>
            <a:ext cx="3618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609480" y="4876920"/>
            <a:ext cx="362160" cy="3603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533520" y="1219320"/>
            <a:ext cx="361800" cy="3603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219320" y="1050840"/>
            <a:ext cx="76197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바탕"/>
              </a:rPr>
              <a:t>Establecer y profundizar los vínculos interinstitucionales a través de mecanismos asociativos formales y perdurables con organizaciones del Estado y del sector social y productiv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바탕"/>
              </a:rPr>
              <a:t>Favorecer la integración y el mejoramiento de las áreas que desarrollan actividades de transferencia al medio social y productivo, en actividades que incluyan al conjunto de la institu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바탕"/>
              </a:rPr>
              <a:t>Mejorar la calidad y alcance de los sistemas de información para generar bases de datos, bancos de expertos, oferta tecnológica y toda acción que optimice la gestión de la vinculación con el sector productivo</a:t>
            </a:r>
            <a:r>
              <a:rPr b="1" lang="es-ES" sz="2000" spc="-1" strike="noStrike">
                <a:solidFill>
                  <a:srgbClr val="800000"/>
                </a:solidFill>
                <a:latin typeface="Tahoma"/>
                <a:ea typeface="Times New Roman"/>
              </a:rPr>
              <a:t>     </a:t>
            </a:r>
            <a:r>
              <a:rPr b="1" lang="es-E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5T16:18:22Z</dcterms:created>
  <dc:creator>Jim Mullin</dc:creator>
  <dc:description/>
  <dc:language>en-US</dc:language>
  <cp:lastModifiedBy>spu178li</cp:lastModifiedBy>
  <cp:lastPrinted>2003-04-04T15:46:12Z</cp:lastPrinted>
  <dcterms:modified xsi:type="dcterms:W3CDTF">2008-05-27T21:40:52Z</dcterms:modified>
  <cp:revision>208</cp:revision>
  <dc:subject/>
  <dc:title>Algunas Opiniones sobre Políticas de C, T y I </dc:title>
</cp:coreProperties>
</file>